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F1B6-34FD-4BCD-AC2F-50B4A15C2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1DF6-CAC8-487D-973B-A13263DE6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E87F-5C5D-4380-8F7B-54FB85D7F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DA31-2355-4A42-B1A3-3A59A3AFB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8CCE7-FF95-4970-B90D-E9A13157B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DDFE1-4675-4884-B3E1-834F659DC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9F578-5E6D-481B-B9BE-2696D10C2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D54F4-1E0C-48B1-AFB7-5F3842471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47A14-17FC-455D-AC5F-31226FE53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FA1BC-3E55-4A30-BE36-2BBD3FA13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5324C-C8AD-49F5-A6AB-473E0F5E4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8B00-3F93-4D15-B2DE-58F1A6333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D803E-219F-4A4F-90EA-6755D887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CC5D0-AC41-49A3-882A-46716373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2AF01-D047-4768-B016-EA474F41F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B1E50-63CD-496D-A231-D5196D833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2B903-C173-42FF-AD76-2056174E7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1A89-11DD-45B6-A606-3E7B7B890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636C-8345-4095-A85E-338D234AE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6AA5-BBDA-42A4-85BC-978499966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98EE-8207-46F5-9B09-D73FAF5A1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11EA-705C-47F1-8868-9BAEB90D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A639-045E-42DC-9627-9C6BD90A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2094-9274-4B28-AD38-9BE3E08F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4B062-A90F-4C20-8BF3-8A36CA82E3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73f8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CDAC3-90F0-420B-A883-7BFB442F03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740720" y="5229360"/>
            <a:ext cx="992160" cy="9921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859280" y="4797360"/>
            <a:ext cx="992160" cy="9921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3419640" y="1916280"/>
            <a:ext cx="992160" cy="9921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d9d9ff"/>
                </a:solidFill>
                <a:uFillTx/>
                <a:latin typeface="Comic Sans MS"/>
              </a:rPr>
              <a:t>Y llygod a’r gath</a:t>
            </a:r>
            <a:endParaRPr b="1" lang="en-US" sz="36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826560" y="1557000"/>
            <a:ext cx="67820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Mae pump llygoden, Lleucu, Llywellyn, Llinos, Llion, a Llywela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7236000" y="476280"/>
            <a:ext cx="1141200" cy="18176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900000" y="2565360"/>
            <a:ext cx="78487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Maent yn bwyta caws yn y gegin. Mae Whisgars y gath yn ei gweld ac yn rhedeg ar ôl y pump ohonynt. Mae pob un ohonynt yn dianc i dwll yn y wa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00000" y="3789360"/>
            <a:ext cx="777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Llinos oedd y drydedd llygoden nôl, gyda Llywela yn pedwerydd. Daeth Llion nôl ar ôl Llywela. Nid Llywellyn oedd yr ail yn ô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00ff"/>
                </a:solidFill>
                <a:latin typeface="Comic Sans MS"/>
              </a:rPr>
              <a:t>Pa llygoden oedd y cyntaf nôl, a pha un oedd olaf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755640" y="333360"/>
            <a:ext cx="992160" cy="9921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179280" y="5589720"/>
            <a:ext cx="992160" cy="99216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179280" y="2492280"/>
            <a:ext cx="571680" cy="685800"/>
            <a:chOff x="179280" y="2492280"/>
            <a:chExt cx="571680" cy="685800"/>
          </a:xfrm>
        </p:grpSpPr>
        <p:sp>
          <p:nvSpPr>
            <p:cNvPr id="109" name=""/>
            <p:cNvSpPr/>
            <p:nvPr/>
          </p:nvSpPr>
          <p:spPr>
            <a:xfrm>
              <a:off x="179280" y="2492280"/>
              <a:ext cx="571680" cy="57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9280" y="2720880"/>
              <a:ext cx="57168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20:36:42Z</dcterms:created>
  <dc:creator>Carwyn</dc:creator>
  <dc:description/>
  <dc:language>en-US</dc:language>
  <cp:lastModifiedBy>Carwyn</cp:lastModifiedBy>
  <dcterms:modified xsi:type="dcterms:W3CDTF">2008-12-04T17:14:55Z</dcterms:modified>
  <cp:revision>6</cp:revision>
  <dc:subject/>
  <dc:title>Y llygod a’r gath</dc:title>
</cp:coreProperties>
</file>